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370-2941-4B4D-BB45-3463162D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19C-45EC-4566-8892-161AA147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1E6-1412-4E5E-B8F3-AB02539D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2E6-0795-459D-9414-A096A849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8D52-ACB4-4130-B514-6AB3A89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653D-8BA6-431C-9DF1-83B80B6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EC43-4FE7-4325-8362-EE6FA753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2EB-B296-4004-A5F9-F2C0523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EA17-ABF6-486D-A805-FDA089E6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D86-EC38-42A2-875E-2346D805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1F4D-D99A-4424-A2A8-366E44E3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015-CE45-4CC2-BF7A-1E2A98C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09C9-BE5D-40A6-BB94-F793CE3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449-1F87-410B-B259-1807769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313-FEE0-45DA-BEDF-42EF1B4C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7EB-DACA-4E5C-A785-F95F5E02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5B9A-56F3-4EE9-B1E7-0583420E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4FA-391B-4C1A-8936-F867BB47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E6E-E4A9-4009-A28F-8A196AF9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EFD-7F23-4765-A478-0BF7DE6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391-2BF7-40B5-B90F-EA206007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A8A-A152-488C-9FC0-3BA930B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1C0-5E1F-4FED-B074-9003D6E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8A5-ACAF-4E22-8DB7-483B1B61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6D71-BA0D-4D5C-94F3-7A179BEB51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F16B-CF89-4107-9AAB-A845EE060A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esson#23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opic: Simple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difference between wiring light bulbs in series and in parall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EMF and terminal voltage of batte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how the difference between EMF and terminal voltage can be treated as internal resistance of the batt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voltage, current, and resistance for a simple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loop rule for a single loop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13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601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op Rule Examp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the current in the following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6002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2743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905120" y="19810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1981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05740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27432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905120" y="26668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057400" y="2743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26668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09680" y="2057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00560" y="2624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429000" y="2743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290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op Rule Examp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the current in the following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743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905120" y="19810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981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05740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27432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905120" y="26668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057400" y="2743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81080" y="26668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00560" y="2624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429000" y="2743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09680" y="2057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7766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95480" y="19335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95480" y="20383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4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Lab: Simple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simple series circuit with light bulb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sure the voltage drop and current through a light bulb using a multime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simple parallel circuit with light bul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 the changes in voltage and current in a series circuit to a parallel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chanically create the power needed to generate the electricity needed to light four bulbs and make note of the difference in torque when bulbs are remov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4920" y="4800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Lab Task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Complete the Hewitt lab #91. Make sure all tables are completed and questions are answered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b due at the end of the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5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Multi-loop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and draw a schematic of a multi-loop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ck out single loops from a multiple loop sche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voltage equations for each individual lo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 for multiple unknown currents in different sections of a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16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4876920"/>
            <a:ext cx="8458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aw a circuit with a 12V battery and 3 resistors wired in parallel with one another. If the resistance of each resistor is 2ohms, 4 ohms, and 6ohms, can we say that the current through each section is the same? How can we predict the current in each section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3520" y="6248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t Physics p757 #43 b, c, d,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lti-loop Circui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real circuits have multiple loops and are much more complicated than the light bulb circuits we have been dealing w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plication arises when there are different size resistors located at within different loop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eans that the current will be different for different sections of the circu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olve for the current in each section, we will have to create multiple loop equations to solve for the multiple unknown vari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create these equations we will follow the loop rule, or specifical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Kirchoff’s loop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ltiple Loo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8077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the following circui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k out two loops seen within this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use the loop rule to write an equation for each individual lo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this loop there are three unknowns, so you should have at least three equ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ce that there are three independent loops in this circuit. The top loop, the bottom loop, and the outer lo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365640" y="14475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17920" y="14479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594240" y="14475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645000" y="14479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365640" y="304776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17920" y="30607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594240" y="30477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645000" y="30481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65640" y="2298240"/>
            <a:ext cx="126720" cy="6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05320" y="22860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594240" y="2285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45000" y="2286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15238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1523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718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7180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1523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2362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29200" y="2133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2286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3048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3124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124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8148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15238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2743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1981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52680" y="1143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19720" y="2666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029200" y="191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933960" y="3124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14479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10280" y="100476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10280" y="190512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26668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unction Ru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op rule can only be used to get two of the eq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rder to get the third independent equation we need to  examine a point in the circuit where the current is split or comes back togeth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ecause current is conserved, we can add up the current from two divided sections to obtain the current from the original sour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679840" y="43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32120" y="43290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908440" y="432900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59200" y="43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679840" y="5929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32120" y="594216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908440" y="592920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59200" y="5929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679840" y="5180040"/>
            <a:ext cx="12672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19520" y="51674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908440" y="516708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59200" y="516744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405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0" y="44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52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6005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44053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24080" y="5243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0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95680" y="5167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733920" y="5776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86200" y="592920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4080" y="6005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6200" y="6005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52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486400" y="4405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90920" y="5624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66880" y="4862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666880" y="40244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55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34340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885840" y="6324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3886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441972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5943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464832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lving for multiple unknow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following schematic and direction of current to create two more equations besides the junction rule, and solve for each of the unknowns using algebraic substit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384200" y="30337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36840" y="303372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612800" y="30333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63560" y="30337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384200" y="46339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36840" y="464652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612800" y="463356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63560" y="463392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384200" y="3884760"/>
            <a:ext cx="12708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23880" y="38718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612800" y="387180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63560" y="38718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311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1100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3948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47102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311004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948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7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387180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38280" y="44816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90920" y="4633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710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71024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39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1120" y="311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193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3567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2728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38280" y="4253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0481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59056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3505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362320" y="2971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38280" y="25909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to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3124080"/>
            <a:ext cx="106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mi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19520" y="46483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bo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91320" y="2743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Equ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l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990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simple circuit is set up as shown. If the ammeter reads 1A, what is the resistance 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99000" y="1905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51640" y="2057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31488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6716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54348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59424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23856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90840" y="20700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467160" y="20570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51792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29596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4824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52456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7532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40160" y="2133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27200" y="3505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46520" y="3505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70200" y="21337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26044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13080" y="2895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527200" y="2895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2720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27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184800" y="2984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905440" y="25146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51640" y="21337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8480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0864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356000" y="251460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356000" y="26668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50864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355640" y="2819520"/>
            <a:ext cx="3812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35600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94440" y="304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130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8932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051440" y="2666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19920" y="2552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704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7984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rm U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imple series circuit consists of three identical lamps powered by a battery. When a wire is connected between points a and 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happens to the brightness of lamp 3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current in the circuit increase, decrease, or remain the sam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happens to the brightness of lamps 1 and 2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es the voltage drop across lamps 1 and 2 increase, decrease, or remain the s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power dissipated by the circuit increased, decreased, or does it remain the s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62485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6477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6520" y="65530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676520" y="56386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653904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5334120"/>
            <a:ext cx="60948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5334120"/>
            <a:ext cx="60948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4120"/>
            <a:ext cx="60984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8840" y="5514840"/>
            <a:ext cx="57924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548640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548640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56386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72200" y="5661000"/>
            <a:ext cx="349200" cy="870120"/>
          </a:xfrm>
          <a:custGeom>
            <a:avLst/>
            <a:gdLst/>
            <a:ahLst/>
            <a:rect l="l" t="t" r="r" b="b"/>
            <a:pathLst>
              <a:path w="220" h="548">
                <a:moveTo>
                  <a:pt x="153" y="0"/>
                </a:moveTo>
                <a:cubicBezTo>
                  <a:pt x="180" y="81"/>
                  <a:pt x="220" y="215"/>
                  <a:pt x="126" y="246"/>
                </a:cubicBezTo>
                <a:cubicBezTo>
                  <a:pt x="0" y="330"/>
                  <a:pt x="53" y="325"/>
                  <a:pt x="53" y="5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62560" y="5329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91120" y="62150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6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Lab: Predicting Resistance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a circuit from a schem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ctly wire a multimeter to measure the current in a section of wi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equations and solve for multiple unknown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 the calculated prediction of resistance to the measured resistance of a light bul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29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0880" y="5181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b Task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addition to the usual lab report, complete the calculations and questions found on the lab she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6019920"/>
            <a:ext cx="769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b Report due tomorrow.  DC Exam Review due Fri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sson #27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pic: Simplifying Circuit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resistance of resistors that are wired in s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resistance of resistors that are wired in parall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fy a complex circuit to a simple circuit by calculating total resistanc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/30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4952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you add resistors to a circuit wired in series, will the overall resistance go up or down? What if the circuit and the added resistors were wired in parallel with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6019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lt Physics p755,756 #23, 24, 25, 26, 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dding Resistance in Se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320" y="1142640"/>
            <a:ext cx="85374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dd resistors to a circuit in series, the overall resistance of the circuit wil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because the same current is forced through each resist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tage drop across each resistor is the total voltage divided by each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resistance of each resistor is constant, and the voltage drop per resistor goes down with each resistor added, then the current must drop as we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ce, as you add bulbs to a series circuit, bulbs get dimm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tal resistance of a series circuit is the simple addition of the resistance of each individual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295280" y="5562720"/>
                <a:ext cx="6629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resistance in the circ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current drawn from the batt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36896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21240" y="4724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597560" y="4711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50532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4724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733920" y="4711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8468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616120" y="47242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768760" y="473724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844720" y="4724280"/>
            <a:ext cx="50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95480" y="47242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487692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29200" y="38988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105520" y="38858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5628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949560" y="38862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02200" y="389880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178160" y="3885840"/>
            <a:ext cx="511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2928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04812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00400" y="38988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276720" y="38858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27480" y="38862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209680" y="387324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362320" y="38862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438280" y="38732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89040" y="387360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09680" y="48006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800600" y="4800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0532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66880" y="3962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1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434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4290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810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33720" y="45720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4572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2096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47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ding Resistance in Parall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5374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dd resistors to a circuit in parallel, the overall resistance of the circuit wil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rea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because the current is split through each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tage drop across each resistor is the same as the total voltage of the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resistance of each resistor is constant, and the voltage drop per resistor remains the same with each resistor added, then the current drawn from the battery must increa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the voltage is held constant and the overall current increases, then the resistance must drop as bulbs are ad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tal resistance of a parallel circuit is the inverse of the addition of the inverses of each individual resis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2057400" y="5591160"/>
                <a:ext cx="48769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resistance in the circ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total current drawn from the batte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01992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72200" y="4724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6248520" y="4711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99280" y="4711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006960" y="281916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59600" y="283212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35560" y="2819160"/>
            <a:ext cx="511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286680" y="2819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19920" y="3568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1722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248520" y="35683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99280" y="35686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019920" y="42544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72200" y="42670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248520" y="425412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299280" y="425448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28954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5627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771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77120" y="3645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38680" y="3645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3111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672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4360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771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934320" y="28954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5562360" y="2895480"/>
            <a:ext cx="7596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09588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24852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562720" y="5638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24852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mplifying Circu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se addition rules, we can simplify circuits to a single battery and resis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ful for finding the total voltage, resistance, or current drawn from a single battery in a circ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not be used to solve for the current within sections of a parallel circu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990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nd the equivalent resistance of circuit and the current drawn from the batte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488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46716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354348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59424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323856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390840" y="20700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467160" y="20570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17920" y="20574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29596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48240" y="344160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5524560" y="34286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7532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40160" y="2133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27200" y="3505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46520" y="35053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657600" y="21337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6044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413080" y="2895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527200" y="2895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2720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27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6170760" y="297000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562720" y="2133720"/>
            <a:ext cx="622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6171840" y="2133720"/>
            <a:ext cx="12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0864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356000" y="251460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356000" y="2666880"/>
            <a:ext cx="38124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450864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4355640" y="2819520"/>
            <a:ext cx="38124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289548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767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09880" y="2666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181480" y="1600200"/>
            <a:ext cx="67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67984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513072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83360" y="207000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359320" y="2057040"/>
            <a:ext cx="50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10080" y="205740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495680" y="2133720"/>
            <a:ext cx="6098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5105520" y="2590560"/>
            <a:ext cx="2286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5181480" y="25909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181480" y="2819160"/>
            <a:ext cx="3812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562720" y="2819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62720" y="297180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ries vs. Parallel Circui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bulbs wired in series are lined up one right after the 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rent throughout the circuit remains the sa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rcuit makes a single loop from the positive terminal of the battery to the negative term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bulbs wired in parallel are each individually connected to the battery termin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rent is then split and divided amongst each light bul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57150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57150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5943600"/>
            <a:ext cx="53352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67640" y="5896080"/>
            <a:ext cx="533160" cy="4572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52640" y="5776920"/>
            <a:ext cx="57924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43000" y="577692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5682240" y="6066720"/>
            <a:ext cx="57960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106600">
            <a:off x="6763320" y="5995080"/>
            <a:ext cx="579240" cy="263520"/>
          </a:xfrm>
          <a:custGeom>
            <a:avLst/>
            <a:gdLst/>
            <a:ahLst/>
            <a:rect l="l" t="t" r="r" b="b"/>
            <a:pathLst>
              <a:path w="365" h="166">
                <a:moveTo>
                  <a:pt x="0" y="92"/>
                </a:moveTo>
                <a:cubicBezTo>
                  <a:pt x="111" y="129"/>
                  <a:pt x="246" y="166"/>
                  <a:pt x="201" y="19"/>
                </a:cubicBezTo>
                <a:cubicBezTo>
                  <a:pt x="198" y="10"/>
                  <a:pt x="188" y="6"/>
                  <a:pt x="182" y="0"/>
                </a:cubicBezTo>
                <a:cubicBezTo>
                  <a:pt x="164" y="3"/>
                  <a:pt x="144" y="0"/>
                  <a:pt x="128" y="9"/>
                </a:cubicBezTo>
                <a:cubicBezTo>
                  <a:pt x="98" y="27"/>
                  <a:pt x="130" y="79"/>
                  <a:pt x="146" y="92"/>
                </a:cubicBezTo>
                <a:cubicBezTo>
                  <a:pt x="211" y="146"/>
                  <a:pt x="252" y="110"/>
                  <a:pt x="365" y="11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20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6477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09640" y="626256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47880" y="638640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828440" y="6477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76920" y="6019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6172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105520" y="5790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05520" y="6172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791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5791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64771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10280" y="57913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0102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ries vs. Parallel Circui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drop across identical light bulbs in series is divided evenly among each bul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tage drop across identical light bulbs in parallel is equal to the original voltage of the batte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eries wired in series add voltage (or subtract if are re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tteries wired in parallel do not ad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batteries in parallel would light the bulb about the same as one battery by itsel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sibly only slightly brighter due to internal resist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M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tteries are rated by the voltage difference between terminals, but when current begins to flow between terminals, the voltage dr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similar to what happens in water pipes when you turn on a fauc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ater pressure is larger when the faucet is closed than when the water is run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lumbing cannot maintain the same pressure as the water is remo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water that flows (current) the lower the pressure beco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oltage across the battery terminals goes down as current is dra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current drawn, the more the drop in volt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MF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ly, the chemical reactions in the battery responsible for producing the electric potential energy cannot proceed quickly enough to maintain the potential differenc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itial voltage that the battery is rated at for when there is no current is i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MF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ctual voltage between terminals when the circuit is closed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erminal volt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re current drawn from the battery, the smaller the terminal volt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ernal Resista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ypically done when quantifying the properties of circuits is to measur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ternal resistan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fference in voltage between the EMF and the terminal voltage can be treated as a tiny resistor located within the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an then say that the EMF is the actual voltage of the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that there is an internal resistance that causes a voltage drop as soon as the circuit is clos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explains why two batteries in parallel will light a bulb brighter than a single battery in ser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because when used in parallel, less current needs to be drawn from each batt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less current, the internal resistance of each battery has less of an effe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ernal Resistanc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ypical fresh AA dry cell has an EMF of 1.5V and an internal resistance of .31oh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terminal voltage of the battery if the battery is hooked up in series to a resistor such that a current of 58mA is measured through the resist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resistance of the resist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se the resistor was replaced by a wire of negligible resistance. What current will flow through the wi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oop Ru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circuit contains a single battery and a single resistor it is simple to find the current through the circu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circuits with multiple elements a loop rule needs to be appli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rule extends from the idea that the voltage between a point and itself is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 go around a complete loop in a circuit (starting and ending at the same point), we find that each element is associated with a voltage across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oop Rul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um of all of the voltages across each element in the loop as you go around the loop should equal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11-30T21:12:59Z</dcterms:modified>
  <cp:revision>74</cp:revision>
  <dc:subject/>
  <dc:title>Lesson #1 8/29/06 </dc:title>
</cp:coreProperties>
</file>